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BF5-F2DC-4D9C-9717-480F0497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AAC-79B2-41ED-BCD5-B710EC5E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400-8FB5-425D-8CBC-C831E4D2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1BFF-41E7-45F0-BAFA-4D532B23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12B-078E-471A-BCCA-582CFA47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FC4-AEC6-4F2F-B039-0324AF14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1179-A230-42C0-8975-7FCD9286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0125-C9E0-4AE8-8097-6A845749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83B0-BCEC-4731-845E-6E8BD9C6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55C-5467-47DB-9D51-EB21FECA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397-73FB-43BC-BEB5-9DA0C68F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D09-6522-4A22-BEF3-A2B2B7C5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38B9-7BF9-429B-9616-747B143D5FD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OUR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214200" y="1666800"/>
            <a:ext cx="892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φιλων την ψυχην αὐτου οὐ σωσει αὐτην, και ὁ μισων την ψυχην αὐτου ἐν τῳ κοσμῳ τουτῳ εἰς ζωην αἰωνιον φυλαξει αὐτ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ξελθων εἰδεν πολυν ὀχλον και ἠλεησεν ἐπ’ αὐτους, ὁτι ἠσαν ὡς προβατα μη ἐχοντα ποιμεν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hepher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και ἠρξατο διδασκειν αὐτους πολλ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μην ἀμην λεγω ὑμιν ὁτι ὁ τον λογον μου ἀκουων και πιστευων τῳ πεμψαντι με ἐχει ζωην αἰωνιον και εἰς κρισιν οὐκ ἐρχε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ας ὁ θεωρων τον υἱον και πιστευων εἰς αὐτον ἐχει ζωην αἰων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οὐν Ἰουδαιοι περι αὐτου ἐλαλουν μετ’ ἀλληλων ὁτι εἰπεν∙ Ἐγω εἰμι ὁ ἀρτος ὁ καταβας ἐκ του οὐραν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 γαρ ἐστιν ὁ λογος δια Ἠσαϊου του προφητου λεγοντος∙ Φωνη κραζοντος ἐν τῃ ἐρημῳ∙ Ἑτοιμασατε την ὁδον κυρι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42920" y="1357200"/>
            <a:ext cx="8929800" cy="43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τε προς αὐτους∙ Ἀνδρες Ἰσραηλ, προσεχετε ἑαυτοις ἐπι τοις ἀνθρωποις τουτοις τί μελλετε πρασσ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ὁ Σατανας ἠν ἐν τῃ ἐρημῳ πολλας ἡμερας πειραζων αὐτον, και ὁ Ἰησους ἠν μετα των θηριων, και οἱ ἀγγελοι διηκονουν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For the father has subjected all things under the feet of the 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Beloved children, guard yourselves against 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FangSong"/>
              </a:rPr>
              <a:t>ἀπο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] those who hate your so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That stone has the image of Caesar, not of some Gr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What therefore will the lord of the vineyard do?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FangSo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14200" y="1666800"/>
            <a:ext cx="89298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λλα ἐχω ὑμιν γραφειν ἀλλα ἐλπιζω γενεσθαι προς ὑμας και στομα προς στομα λαλησ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εἰπεν ὁ Ἰησους∙ Εἰς κριμα ἐγω εἰς τον κοσμον τουτον ἠλθ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αις του διδασκαλου ἐμισει τα βιβλια του πατρος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προσελθων ἠγειρεν αὐτην κρατησας της χειρ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ρχονται εἰς Ἱεροσολυμα∙ και εἰσελθων εἰς το ἱερον ἠρξατο ἐκβαλλειν τους ἀγοραζοντας ἐν τῳ ἱερ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Φαρισαιος προς ἑαυτον ταυτα προσηυχετο∙ Ὁ θεος, εὐχαριστω σοι ὁτι οὐκ εἰμι ὡσπερ οἱ ἀλλοι ἀνθρωποι, ἠ και ὡς οὑτος ὁ ἁμαρτωλος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14200" y="1214280"/>
            <a:ext cx="8929800" cy="54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πρεσβυτεροι και οἱ διδασκαλοι ὀφειλουσιν διακονειν τοις προβατοις και προφητευειν τοις ἁμαρτωλοις και θεραπευειν τους ἀσθενεις και μητε βλασφημειν τον θεον ἡμων μητε σκανδαλιζειν τα παιδια του κυρ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η λεγετε ἐν ἑαυτοις∙ Πατερα ἐχομεν τον Ἀβρααμ. λεγω γαρ ὑμιν ὁτι δυναται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s abl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ἐκ των λιθων τουτων ἐγειραι τεκνα τῳ Ἀβραα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ars of the sinners do not hear the seed which the sewing one s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udgement begins with the household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lder prayed for James, and the lord, having heard, had mer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uching the sinner, the one serving the Father in heaven healed her ears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14200" y="1285920"/>
            <a:ext cx="87156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1.7-10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ἐκήρυσσεν λέγων, Ἔρχεται ὁ ἰσχυρότερ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powerful tha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ου ὀπίσω μου,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o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ὗ οὐκ εἰμὶ ἱκανὸ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orth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ύψ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υπτω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end dow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ῦσαι τὸν ἱμάντ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trap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ῶν ὑποδημάτω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andal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ῦ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γὼ ἐβάπτισα ὑμᾶς ὕδατι, αὐτὸς δὲ βαπτίσει ὑμᾶς ἐν πνεύματι ἁγίῳ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9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ἐγένετο ἐν ἐκείναις ταῖς ἡμέραις ἦλθεν Ἰησοῦς ἀπὸ Ναζαρὲτ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azareth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τῆς Γαλιλαίας καὶ ἐβαπτίσθη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e was baptiz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 τὸν Ἰορδάνη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Jorda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ὸ Ἰωάννου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10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εὐθὺς ἀναβαίνων ἐκ τοῦ ὕδατος εἶδεν σχιζομένου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eing spli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ὺς οὐρανοὺς καὶ τὸ πνεῦμα ὡς περιστερὰ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ov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ταβαῖνον εἰς αὐτόν.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3:09:36Z</dcterms:created>
  <dc:creator>Sarah</dc:creator>
  <dc:description/>
  <dc:language>en-US</dc:language>
  <cp:lastModifiedBy>Sarah</cp:lastModifiedBy>
  <dcterms:modified xsi:type="dcterms:W3CDTF">2009-03-02T18:24:11Z</dcterms:modified>
  <cp:revision>27</cp:revision>
  <dc:subject/>
  <dc:title>Slide 1</dc:title>
</cp:coreProperties>
</file>